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4CC-F94E-45F2-8C7D-D17A28DB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C35-AA9B-47D9-A6A4-3A61CD0C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4E2-87AD-4A6A-91AF-C28A3171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6E7-F4AC-4115-9D22-F7865A00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988-8E2E-4DC9-B5E6-D3DA2CE7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35A-A792-4BBC-A7D7-DD96CF53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BE6-EC63-4088-B4FE-5484F576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DDB-6044-4103-9AA2-D07E6A83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783-A22D-4C09-89D8-BBFE1E55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C32-E3B7-4C08-813B-9B2E4AA3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9B6-29C5-4985-8D1D-F02135DD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B0A-B17D-4710-9747-C54924E3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13F6-E031-488E-B82F-4B134646A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пределить число протонов, электронов и нейтронов в атоме аз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то называют электрическим то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Что необходимо для создания и существования эл.тока в провод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ие превращения энергии происходят внутри источников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ите табл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77,   № 998,   № 999 (В.И.Лукаш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3124080"/>
          <a:ext cx="8686800" cy="2397240"/>
        </p:xfrm>
        <a:graphic>
          <a:graphicData uri="http://schemas.openxmlformats.org/drawingml/2006/table">
            <a:tbl>
              <a:tblPr/>
              <a:tblGrid>
                <a:gridCol w="609840"/>
                <a:gridCol w="1904760"/>
                <a:gridCol w="1600200"/>
                <a:gridCol w="2743200"/>
                <a:gridCol w="182880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источников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о источника то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получения электрического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ьва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муля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y</cp:lastModifiedBy>
  <dcterms:modified xsi:type="dcterms:W3CDTF">2012-01-12T13:06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